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20DE-A235-4F3B-BCC5-B52EB669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4CA1-E598-4117-82DB-E04012ED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D4F6-0A45-459F-A724-2352F6F1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91D3-595B-4EC7-A8BC-93B32A15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758-B2F8-46FD-A970-C5526B6D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1303-64A7-4AC9-8A62-C76A1CA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790-0782-4B94-AE96-71CCAF7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C92-A65A-4605-840D-F67FE62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8B8-01D3-4844-A5E6-6960E3FC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8DB2-342E-413C-BC1B-03713D1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BFE5-712B-4AE2-869E-2303A1C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55D6-7D07-4990-BB65-9889E6E0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A83-41F6-41CB-814C-06363F5B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97DA-5233-41FE-937D-C4E5911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694-9E8A-40C0-B141-E7B1767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63B9-D294-4826-80A3-AE84BDE0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AC7-D1E5-48A0-9994-370C89B2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31B3-F7C3-4B28-8815-56E53053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6C58-511C-43C0-940A-104DC1BD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6C49-2D92-40D1-BD87-2E40010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CA91-DDC1-42DF-96C0-EF49B523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DBAC-1823-4105-8F68-A4FD651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879D-60A1-4917-B6DF-5DC148B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7466-0E28-4A7F-89F7-231C863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F4BD-3DF3-46F1-8475-3CF9C54FF19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DEB-0B09-45C4-AD0C-6EE389A4208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1399680"/>
            <a:ext cx="849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Ант.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! Възпей на Госпо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ей, запей таз песен на хва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кръвта Си Той ни изкуп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т вечна смърт освободи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922040"/>
            <a:ext cx="89647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 от грях и мъка зла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 от земните тегла! Спасен! Спасен в Христова кръв! Спасен! Спасен от грях и от смърт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реч утеха е на вс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си с духовно здрави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Христа са те изкупе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т вечна смърт избавени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5267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 от грях и мъка з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 от земните тегла! Спасен! Спасен в Христова кръв! Спасен! Спасен от грях и от смър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радостен в Христа, от гря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умит съм навсег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валя вечно моя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безкрай ще Го възпявам аз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922040"/>
            <a:ext cx="89647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 от грях и мъка зла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пасен! Спасен от земните тегла! Спасен! Спасен в Христова кръв! Спасен! Спасен от грях и от смърт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07:47:46Z</dcterms:modified>
  <cp:revision>53</cp:revision>
  <dc:subject/>
  <dc:title>Slide 1</dc:title>
</cp:coreProperties>
</file>